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0EF-0755-46F7-967F-B00E72F6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21B-E5DE-434D-9624-5DC50D78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C69E0-D9B2-495D-8805-F2B7DFDB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C870D-07B5-4241-8A4F-0FDE8E9A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64736-A100-437C-94D6-CA171E22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AB992-B23E-4B01-AEB9-7A1C6E22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CEC0F-C547-4BAB-BDE5-5A1A2C39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A2570-F58A-4C12-AB98-D15BDD0C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A9163-EDE2-4A86-9F3D-A92CDEFB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9BDED-9069-42CA-B594-71627014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F9156-C2AB-4BA9-9A1B-0121C8B7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F6CE3-0DA4-474A-8F3A-F4C0DBC4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42D1-1805-443D-89C4-C1A04612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9D712-28C5-4DEA-8A06-E7BA2829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C2367-F362-40D0-80CE-A19C0BAD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8BA56-7D75-4907-B4D0-0742293D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EA301-D838-472F-99F9-02F80239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3CBAC-9274-401B-B67C-6B608531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07E92-E501-43C1-BCC0-4C6A12B6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AC21E-20B8-4854-BC6E-D189E333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79281-8BAE-45B8-82F4-66CB67A6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87656-D460-4F1B-A1BE-FB7F5161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D98CD-9CB6-4914-A3D6-2D0B6DE9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09B-C20F-4423-8557-8542E4D2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D45F7-9E34-481B-BD39-69336CD6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486E2-2ABA-42ED-81E8-3E281B44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49C9C-E4D1-4BB8-A222-4E3F6D5A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BEDD6-5C49-4135-A74F-1963088D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14A11-3F91-4B9E-919D-862F310E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69735-57F2-41E5-8E76-12CA0740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A25FC-594C-444C-A673-072FAB85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2E640-FC4B-49AE-8735-B1CADEE4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F11CC-F983-4626-86F0-269A75E0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D6C43-1768-4D4D-9F11-44FE1513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5E3F-A32A-4F32-83F6-1BACA9A7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807CC-0F30-43D7-9849-1FA6400A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F66B1-F40C-4EAE-966F-62ACC232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97D6C-E87D-4C34-BA94-57F44BD6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66E56-0BA9-45B3-B1DB-3CBA974B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6ECF5-AD68-4073-A636-D0893549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47A50-0EDA-4A7D-A91F-C7E7006C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39F06-B8B5-40C7-9B82-6EF0273A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5A64B-10C0-42D2-914B-C0255198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EA0A9-1442-4E98-8C43-756854F9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23F70-92FC-4A45-A90F-598C60F8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C22F-29D9-44AB-9B37-EFF9DF37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35D52-C67C-43F3-B887-4A4AD7BE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387EF-C1B2-45AB-A254-C5599D78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5615C-2D96-4594-9178-826AC2FB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2745A-813A-48E5-B31A-07BDEBDA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9939F-95C1-4438-91F6-2CE92B8D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C8A2-8137-4FE0-9D6D-2C967C79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AF31-42D7-4947-92AD-4FDF278A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D317-23C8-4D54-A08F-A0F89E6A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E637-74D1-4CDA-9F43-8343093A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44C3-697E-44BE-9B59-6788D73C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E4C4-2284-4AF6-8691-6E435C08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2F0C-FE94-4F8A-903C-94A1EAA8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0274-26AA-488A-9A2C-0A06BE5F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4BC8-D091-49AF-A713-2CBDD358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9C13-62AE-434B-B7BC-92B263EE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29F5-6DA4-4BEE-9753-BF741473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17F1E-FD2B-4FBD-BB4F-E253E59A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C3C97-FDFD-4335-987F-745442A9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84AA2-E4D0-4CED-99F0-D57EA5BD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83953-4F5C-4163-B5FA-8183E2E7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7D15C-0240-4C07-B29B-776A593A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D3D2-9CE5-48B1-A7E7-891D3168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F22E2-3A5B-4536-90CE-B62D7656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0F38B-2D10-4350-80C7-FCDE2B03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EEE81-0CED-4DE9-8682-DC060126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5CB4E-C010-413D-B6E9-DAA291AF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58DF8-2075-4ACE-A0B4-F96974F1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6F274-5C7C-4DFD-A5F3-300334C3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D18B3-710F-41E1-B522-A8686C3B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27BF9-291A-4495-89FA-D90DAB93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DA8C4-F34E-4BB7-8D5D-D3DC85EE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8AB84-1B29-47F9-BE13-5BCCB586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5C5-F25B-43DA-9118-69A91102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F69FD-F18F-4FF3-9D41-DF7AA2E5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0A3A7-BAEC-43B1-88AF-39642787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153D0-09C6-4EB4-9689-F004242F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C5F4B-B9EA-4FDD-9BBC-9EB7F25C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6440E-90F1-447B-919E-D9AAA132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9AAFB-645B-46C8-988A-67AF2FE1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206E8-8C5B-476A-8D99-952B3805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B7AEC-1F00-42AE-911B-1750F1C7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6FB81-AC5E-45BF-BA24-E5D647D1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7C0D2-DCA5-41B9-8B7D-8CB96B3D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898-F927-469D-A175-DEB91187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194F9-2F6D-4EC0-8E20-78A27BEF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87F5D-E00D-4C22-BAA4-B0498957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0EF14-74CE-410B-868C-98D8B032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747A1-1770-488F-B117-60364B22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FC52F-3797-4F6A-AAF6-09893217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43E0E-BF8A-4FE1-A709-8803899A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55FEE-077D-4348-9E94-439F6263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630AB-FEC9-4202-B775-FF3AB38A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A4C41-7571-4ABE-9706-5BBF114B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B9C69-C7A9-4FA5-9BFF-52BAD62A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0FB-2043-4003-BB52-486DD38B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46626-5B55-4CE7-A8EB-31357F0D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EAFEC-3386-4A90-9B11-964833AB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48C3D-3EA4-437C-BA67-99139BC1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0C8E3-2BF2-43E9-9FFC-84874F51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1216F-DCAB-4FA9-ACDC-ADE0F2F7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6AED4-BF26-4014-B24B-7C83265D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1449C-B9F0-49ED-94C8-7D608EF7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B84BE-4C7A-4E5F-9ECA-A65A09A9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DFC02-3A49-4390-B92B-5D48AA4E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1E4AC-7F3E-461C-A2BE-FB3F75D9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1C8-7131-440B-8B40-F4255B36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78A58-B46A-43D7-AC83-E02E7FA8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DC210-02B3-4319-8B21-1803FAFF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A2227-88CA-45AA-967C-542F5E5E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AA78D-124E-4217-8626-EDE21749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4E825-DCA2-435B-9F1E-6B5C6439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BC7D8-BB5F-4072-B037-2D42CAB7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9E101-6CDF-4329-8B5E-7F531BAB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106E6-25B6-4C50-9C3C-286F0FC1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829A1-D218-4ECF-96BF-668E3F3A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BA449-B71C-4EF7-A358-8CDE5FB5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32DB-2156-4D7C-9BD0-F32F0155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C8916-FC3C-45EE-B3A4-7E98B045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5AC06-1A85-4D6A-95CA-C8F1B68C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9BA1D-69AB-4226-A690-0E3A28A7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40663-A192-4137-908D-00D4CFE6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C1E2A-5B35-45FC-B949-3C368222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F4F40-CA07-4B80-985B-BFC5F346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1BEC2-9DC9-465D-B828-A33AF878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53B4F-FAA3-4C7C-B4B8-F49FA109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CBE47-F08B-4B1B-92AD-5B307F04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89C3A-22ED-4749-A57A-B28AA972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DAC-D0EA-4BF2-AD16-1C432262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5930D-A9B6-43D2-BF7C-6263B532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404D0-0DD9-4656-9D86-3AD61B1E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1647B-4A69-426A-A702-D4C44AC5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707AA-2F31-4C07-B45D-7A5DED34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B5E6A-92E3-429B-B91E-0227ADD1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65050-81EC-4880-8FB0-98C8C3EA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9C761-4227-4E34-B63E-BDC9F423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0E66B-694B-4E29-80E5-C3515D9D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BA23C-B5FA-4CE2-B582-8EEB7E02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6E585-9529-4C92-8EB7-7506908B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D985-6641-4B8D-8E28-2291DB66E23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7189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3CAC-1583-4822-8FA8-176497F019E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6" descr=""/>
          <p:cNvPicPr/>
          <p:nvPr/>
        </p:nvPicPr>
        <p:blipFill>
          <a:blip r:embed="rId3"/>
          <a:stretch/>
        </p:blipFill>
        <p:spPr>
          <a:xfrm>
            <a:off x="0" y="-1440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A80A-8142-41A0-ABE2-D24DCDA619E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D4FA-D839-4913-B2C3-7C3D5CCF5FF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7B8B-527A-42ED-8909-B5E0A36D79F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359A-211E-464D-AA95-54F592870B5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EA7D-51FC-4DE3-8903-82F946983E8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3DC6-EB2D-4C44-AC91-1F0DAB01C33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6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C1A7-2192-45CB-B910-7E3E3BE861A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6" descr=""/>
          <p:cNvPicPr/>
          <p:nvPr/>
        </p:nvPicPr>
        <p:blipFill>
          <a:blip r:embed="rId3"/>
          <a:stretch/>
        </p:blipFill>
        <p:spPr>
          <a:xfrm>
            <a:off x="-792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CCA9-4BAA-433B-BBDC-1B42323AEAC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1616-28E1-47F6-AE98-7570D85AF26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146E-E723-4C18-84FA-4B4864F0C74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c3324"/>
                </a:solidFill>
                <a:latin typeface="Arial"/>
                <a:ea typeface="Arial"/>
              </a:rPr>
              <a:t>Pokusi u fizi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Tijela i tv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3" descr=""/>
          <p:cNvPicPr/>
          <p:nvPr/>
        </p:nvPicPr>
        <p:blipFill>
          <a:blip r:embed="rId1"/>
          <a:srcRect l="0" t="0" r="59634" b="0"/>
          <a:stretch/>
        </p:blipFill>
        <p:spPr>
          <a:xfrm>
            <a:off x="304920" y="1143000"/>
            <a:ext cx="2971800" cy="38088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1237320" y="1865160"/>
            <a:ext cx="37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Čime se bavi fizik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2"/>
          <a:srcRect l="2788" t="0" r="0" b="0"/>
          <a:stretch/>
        </p:blipFill>
        <p:spPr>
          <a:xfrm>
            <a:off x="7086600" y="3962520"/>
            <a:ext cx="1828800" cy="2338200"/>
          </a:xfrm>
          <a:prstGeom prst="rect">
            <a:avLst/>
          </a:prstGeom>
          <a:ln w="0">
            <a:noFill/>
          </a:ln>
        </p:spPr>
      </p:pic>
      <p:sp>
        <p:nvSpPr>
          <p:cNvPr id="508" name="TextBox 4"/>
          <p:cNvSpPr/>
          <p:nvPr/>
        </p:nvSpPr>
        <p:spPr>
          <a:xfrm>
            <a:off x="1041480" y="2584440"/>
            <a:ext cx="67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Fizika opisuje materiju i međudjelovanje mater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4"/>
          <p:cNvSpPr/>
          <p:nvPr/>
        </p:nvSpPr>
        <p:spPr>
          <a:xfrm>
            <a:off x="495360" y="3179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ključena je u osnove svih prirodnih znanosti i razvoj tehnolog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Slika 1" descr=""/>
          <p:cNvPicPr/>
          <p:nvPr/>
        </p:nvPicPr>
        <p:blipFill>
          <a:blip r:embed="rId3"/>
          <a:stretch/>
        </p:blipFill>
        <p:spPr>
          <a:xfrm>
            <a:off x="466560" y="4098960"/>
            <a:ext cx="3048120" cy="2065320"/>
          </a:xfrm>
          <a:prstGeom prst="rect">
            <a:avLst/>
          </a:prstGeom>
          <a:ln w="0">
            <a:noFill/>
          </a:ln>
        </p:spPr>
      </p:pic>
      <p:pic>
        <p:nvPicPr>
          <p:cNvPr id="511" name="Slika 2" descr=""/>
          <p:cNvPicPr/>
          <p:nvPr/>
        </p:nvPicPr>
        <p:blipFill>
          <a:blip r:embed="rId4"/>
          <a:stretch/>
        </p:blipFill>
        <p:spPr>
          <a:xfrm>
            <a:off x="3727440" y="4224240"/>
            <a:ext cx="3154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2"/>
          <p:cNvSpPr/>
          <p:nvPr/>
        </p:nvSpPr>
        <p:spPr>
          <a:xfrm>
            <a:off x="3172320" y="1447920"/>
            <a:ext cx="26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Fizička veliči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22093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melj fizike su fizičke veličine i s pomoću njih se izražavaju zakoni fizik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Slika 1" descr=""/>
          <p:cNvPicPr/>
          <p:nvPr/>
        </p:nvPicPr>
        <p:blipFill>
          <a:blip r:embed="rId1"/>
          <a:stretch/>
        </p:blipFill>
        <p:spPr>
          <a:xfrm>
            <a:off x="3276720" y="3494160"/>
            <a:ext cx="459252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676160"/>
            <a:ext cx="7772400" cy="14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vojstva tijela ili fizičke pojave koje možemo mjeriti nazivamo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zičkom veličino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vaka fizička veličina ima svoju brojčanu vrijednost i mjernu jedinic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Box 2"/>
          <p:cNvSpPr/>
          <p:nvPr/>
        </p:nvSpPr>
        <p:spPr>
          <a:xfrm>
            <a:off x="1375920" y="100332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arijable i kon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26520" y="1514520"/>
            <a:ext cx="493092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Fizičke veličine koje se u određenom pokusu mijenjaju nazivaju se varijablama ili promjenjivim veličin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Content Placeholder 2"/>
          <p:cNvSpPr/>
          <p:nvPr/>
        </p:nvSpPr>
        <p:spPr>
          <a:xfrm>
            <a:off x="352440" y="3871800"/>
            <a:ext cx="41688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Fizičke veličine koje se u određenom pokusu ne mijenjaju stalne su veličine ili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Slika 2" descr=""/>
          <p:cNvPicPr/>
          <p:nvPr/>
        </p:nvPicPr>
        <p:blipFill>
          <a:blip r:embed="rId1"/>
          <a:stretch/>
        </p:blipFill>
        <p:spPr>
          <a:xfrm>
            <a:off x="5105520" y="1427040"/>
            <a:ext cx="206676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Box 2"/>
          <p:cNvSpPr/>
          <p:nvPr/>
        </p:nvSpPr>
        <p:spPr>
          <a:xfrm>
            <a:off x="228600" y="1600200"/>
            <a:ext cx="6858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Hipot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je pretpostavka koju postavljamo na početku pokusa.Znanstvenu hipotezu mora biti moguće provjeriti. Utvrđena i dokazana hipoteza čini teorijski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2"/>
          <p:cNvSpPr/>
          <p:nvPr/>
        </p:nvSpPr>
        <p:spPr>
          <a:xfrm>
            <a:off x="228600" y="1600200"/>
            <a:ext cx="861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Pri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- prije izvođenja utvrdi koji pribor i koji mjerni uređaji su ti potrebni za izvođenje pok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2"/>
          <p:cNvSpPr/>
          <p:nvPr/>
        </p:nvSpPr>
        <p:spPr>
          <a:xfrm>
            <a:off x="330120" y="2857680"/>
            <a:ext cx="47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zultati mjerenja i zaključ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52280" y="1127160"/>
            <a:ext cx="8229600" cy="18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U mjerenjima često nastaju pogreške zbo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nepažnje pri izvođenju pokus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ograničenja mjernih uređa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Content Placeholder 2"/>
          <p:cNvSpPr/>
          <p:nvPr/>
        </p:nvSpPr>
        <p:spPr>
          <a:xfrm>
            <a:off x="272880" y="3530520"/>
            <a:ext cx="82296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Rezultat se izražava brojčanom vrijednošću i mjernom jedini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Zaključak iznosimo u skladu s postavljenom hipotez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2"/>
          <p:cNvSpPr/>
          <p:nvPr/>
        </p:nvSpPr>
        <p:spPr>
          <a:xfrm>
            <a:off x="170640" y="6238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greška mjer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Slika 1" descr=""/>
          <p:cNvPicPr/>
          <p:nvPr/>
        </p:nvPicPr>
        <p:blipFill>
          <a:blip r:embed="rId1"/>
          <a:stretch/>
        </p:blipFill>
        <p:spPr>
          <a:xfrm>
            <a:off x="4824360" y="4648320"/>
            <a:ext cx="3888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6840" y="1752120"/>
            <a:ext cx="80773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Što je fizička veličina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Kao primjer  navedite tri fizičke  veličin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3. 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Što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ma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svaka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fizička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veličina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Navedite mjerne jedinice za vrije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Što su varijabl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Kako nazivamo fizičke veličine koje ne mijenjamo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u pokusu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Zašto mjerenja ponavljamo nekoliko puta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Što sve može utjecati na vrijeme koje nam je      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otrebno da napišemo domaću zadaću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Slika 4" descr=""/>
          <p:cNvPicPr/>
          <p:nvPr/>
        </p:nvPicPr>
        <p:blipFill>
          <a:blip r:embed="rId1"/>
          <a:stretch/>
        </p:blipFill>
        <p:spPr>
          <a:xfrm>
            <a:off x="685800" y="774720"/>
            <a:ext cx="323856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38:40Z</dcterms:created>
  <dc:creator>Slavko</dc:creator>
  <dc:description/>
  <dc:language>en-US</dc:language>
  <cp:lastModifiedBy>Hp</cp:lastModifiedBy>
  <dcterms:modified xsi:type="dcterms:W3CDTF">2020-09-08T04:48:18Z</dcterms:modified>
  <cp:revision>37</cp:revision>
  <dc:subject/>
  <dc:title>Slide 1</dc:title>
</cp:coreProperties>
</file>